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8773-CFE4-4BBF-866B-6D769F6F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B8CC-787B-4DF9-B3AB-F614FA943B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196-9469-4EFE-A6F7-1D471BDD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CC6-9733-42E8-B524-E32D77F9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D8F-D40D-49B3-90D8-91C064B2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340-BC37-4882-B882-E32B01D1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1E0-1944-434C-BEC9-1E178AD3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270-7A1F-489A-9D0C-791F43C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C8D-7E50-4F18-95DD-14BEB8D9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131-8F8F-4DAE-847B-13937494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2F6-32C0-44AD-9BE2-D796AC99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F22-5AEB-4C40-9B63-9E50E840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430-8362-4C76-8017-56532CA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819-B034-4B20-BF6B-6050A55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897-15A7-431D-9791-7ECCB602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7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990720"/>
            <a:ext cx="8991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Rockwell"/>
              </a:rPr>
              <a:t>Clear your desks and prepare for 3</a:t>
            </a:r>
            <a:r>
              <a:rPr b="1" lang="en-US" sz="8000" spc="-1" strike="noStrike" baseline="30000">
                <a:solidFill>
                  <a:srgbClr val="000000"/>
                </a:solidFill>
                <a:latin typeface="Rockwell"/>
              </a:rPr>
              <a:t>rd</a:t>
            </a:r>
            <a:r>
              <a:rPr b="1" lang="en-US" sz="8000" spc="-1" strike="noStrike">
                <a:solidFill>
                  <a:srgbClr val="000000"/>
                </a:solidFill>
                <a:latin typeface="Rockwell"/>
              </a:rPr>
              <a:t> Quarter Tes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518148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t your name, class, and today’s date on both of your test p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repare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Drop Pre/Post Worksheet Due Tomorrow (COMPLET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do you currently understand concepts of energy and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87C75FDC-8041-489A-AF63-9C17FA1DD595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eview the important concepts and ideas explored during the 3</a:t>
            </a:r>
            <a:r>
              <a:rPr b="0" lang="en-US" sz="4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quarter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Quarter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he selected response questions (1 point e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he 3 short essay questions (2 points e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in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etly preview Energy and Motion Text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240" y="152280"/>
            <a:ext cx="1565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32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Electromagnet        Fishing Derby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00" y="152280"/>
            <a:ext cx="144288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152280"/>
            <a:ext cx="176832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1828800"/>
            <a:ext cx="8839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ULT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3124080"/>
            <a:ext cx="42670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zia 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2.4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iel 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9.4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B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7.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ner 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5.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rdan 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2.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remy J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8.2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124080"/>
            <a:ext cx="42674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 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4.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ddy 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.5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ma 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5.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le A.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4.1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 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.6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sica 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440" y="1217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gg Drop Reflection Worksheet           due tomorrow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previewing the textbook, how well do you believe you already understand energy and mo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943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master of anything having to do with energy and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knowledgeable of many energy and motion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general idea about energy and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ouldn’t know energy and motion if I ran into it on my bi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78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4:18Z</dcterms:created>
  <dc:creator>CCPS</dc:creator>
  <dc:description/>
  <dc:language>en-US</dc:language>
  <cp:lastModifiedBy>CCPS</cp:lastModifiedBy>
  <dcterms:modified xsi:type="dcterms:W3CDTF">2010-04-07T11:34:31Z</dcterms:modified>
  <cp:revision>1</cp:revision>
  <dc:subject/>
  <dc:title>Slide 1</dc:title>
</cp:coreProperties>
</file>